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18D6-ECD2-4C43-8EC5-BC6AA9A12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MA is an ontology of canonical human anatomy which represents anatomical structures in terms of Anatomical Entities (AE; e.g., organs, cells, molecules) that are linked to each other by Structural Relationships (SR; e.g., containment, continuity, adjacency). This figure represents a subset of thoracic AEs including the cavities of the proximal aorta (AoP), the left ventricle (LV), the pericarial space (peri), and the pleural space. The AoP and LV cavities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tain (vertical arrows) blood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clarity, a single horizontal arrow represents all other Structural Relationships between this subset of A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vation for this architecture: modularize!  Make the parts resu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VC is model/view/controller – often used as an idealized design pattern, but almost always gets customized for any giv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19A7-7830-4886-804C-90FF294DE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90492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62256-83F7-439D-B772-C05F95E5A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9DE4-3C61-486B-A670-23113545D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C575-FA34-497E-AD60-B543C2811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1914-6445-43C9-85F0-0536ADA56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876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90492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876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6696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460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6696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460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C2C66-86E3-4DDA-8A5F-AFDFC34B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693AD-B609-4631-BB24-D89B2503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9F02F-77E3-4FAB-978C-066788CB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112C2-6F68-49BE-AC4E-D3C86C9B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6CCA4-9610-4F12-8E75-AAD5578C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6F90-4FAA-4FA5-B7FA-BD7CE56FAA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88690-2CB9-419E-8E87-25D694B3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18042-FD9D-4D20-B4C3-B8C29276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2876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F672F-C17E-43AA-838D-EA9755FD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9151E-5C4F-44DB-8FE9-44CBE60F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19320" y="390492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67FF0-EB4C-4C7D-BC05-47EEC8CC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2876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FDD5A-F586-49B8-BFB5-53E9AED6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6696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1460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1932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6696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1460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D54BB-7332-49FA-8954-59905D04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D55E5-74F2-413F-8E21-37897C9F4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B227-2467-488C-AACF-B77930A94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A4EF-3476-4CBA-85D1-25266DE78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3F63-96D6-4C9F-9B53-97988A9EA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26BC1-CDAF-418E-BAB4-4D2297837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D982-0CDD-478A-88CA-CE399854F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93680" y="228600"/>
            <a:ext cx="8381880" cy="1141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90FD-5E76-46A7-A258-8CAEC7F66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8600" y="6172200"/>
            <a:ext cx="8153280" cy="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94480" y="6251400"/>
            <a:ext cx="340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1200"/>
            </a:b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3680" y="422280"/>
            <a:ext cx="8381880" cy="1141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19807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8600" y="6172200"/>
            <a:ext cx="8153280" cy="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57920" y="380880"/>
            <a:ext cx="606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8080"/>
                </a:solidFill>
                <a:latin typeface="Arial"/>
              </a:rPr>
              <a:t>NA-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2200"/>
            </a:br>
            <a:r>
              <a:rPr b="0" i="1" lang="en-US" sz="2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E822-AC8B-4D4D-9EDD-37B7E4BD0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licer3 Architectur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43120" y="1704960"/>
            <a:ext cx="565776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lice Managemen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09880" y="19810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52280" y="33526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2280" y="4191120"/>
            <a:ext cx="1371600" cy="533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Composit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09880" y="28954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91320" y="365760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"/>
          <p:cNvCxnSpPr>
            <a:stCxn id="405" idx="2"/>
            <a:endCxn id="403" idx="5"/>
          </p:cNvCxnSpPr>
          <p:nvPr/>
        </p:nvCxnSpPr>
        <p:spPr>
          <a:xfrm rot="5400000">
            <a:off x="3575880" y="1860120"/>
            <a:ext cx="532440" cy="5041080"/>
          </a:xfrm>
          <a:prstGeom prst="bentConnector3">
            <a:avLst>
              <a:gd name="adj1" fmla="val 1575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405" idx="2"/>
            <a:endCxn id="402" idx="5"/>
          </p:cNvCxnSpPr>
          <p:nvPr/>
        </p:nvCxnSpPr>
        <p:spPr>
          <a:xfrm flipV="1" rot="16200000">
            <a:off x="3688920" y="1440720"/>
            <a:ext cx="306720" cy="5041080"/>
          </a:xfrm>
          <a:prstGeom prst="bentConnector3">
            <a:avLst>
              <a:gd name="adj1" fmla="val -746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401" idx="1"/>
            <a:endCxn id="409" idx="5"/>
          </p:cNvCxnSpPr>
          <p:nvPr/>
        </p:nvCxnSpPr>
        <p:spPr>
          <a:xfrm rot="10800000">
            <a:off x="3150360" y="20552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304920" y="15238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81080" y="16002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"/>
          <p:cNvCxnSpPr>
            <a:stCxn id="409" idx="3"/>
            <a:endCxn id="410" idx="5"/>
          </p:cNvCxnSpPr>
          <p:nvPr/>
        </p:nvCxnSpPr>
        <p:spPr>
          <a:xfrm flipV="1" rot="16200000">
            <a:off x="1790280" y="16635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2" name=""/>
          <p:cNvSpPr/>
          <p:nvPr/>
        </p:nvSpPr>
        <p:spPr>
          <a:xfrm>
            <a:off x="304920" y="24382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981080" y="25146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"/>
          <p:cNvCxnSpPr>
            <a:stCxn id="413" idx="3"/>
            <a:endCxn id="412" idx="5"/>
          </p:cNvCxnSpPr>
          <p:nvPr/>
        </p:nvCxnSpPr>
        <p:spPr>
          <a:xfrm flipV="1" rot="16200000">
            <a:off x="1790280" y="25779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404" idx="1"/>
            <a:endCxn id="413" idx="5"/>
          </p:cNvCxnSpPr>
          <p:nvPr/>
        </p:nvCxnSpPr>
        <p:spPr>
          <a:xfrm rot="10800000">
            <a:off x="3150360" y="29696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405" idx="1"/>
            <a:endCxn id="404" idx="3"/>
          </p:cNvCxnSpPr>
          <p:nvPr/>
        </p:nvCxnSpPr>
        <p:spPr>
          <a:xfrm rot="10800000">
            <a:off x="4952160" y="3123360"/>
            <a:ext cx="8391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405" idx="1"/>
            <a:endCxn id="401" idx="3"/>
          </p:cNvCxnSpPr>
          <p:nvPr/>
        </p:nvCxnSpPr>
        <p:spPr>
          <a:xfrm rot="10800000">
            <a:off x="4952160" y="2208960"/>
            <a:ext cx="839160" cy="1677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7696080" y="3352680"/>
            <a:ext cx="914400" cy="1067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GU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"/>
          <p:cNvCxnSpPr>
            <a:stCxn id="418" idx="1"/>
            <a:endCxn id="405" idx="3"/>
          </p:cNvCxnSpPr>
          <p:nvPr/>
        </p:nvCxnSpPr>
        <p:spPr>
          <a:xfrm flipH="1">
            <a:off x="6933960" y="3885840"/>
            <a:ext cx="76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20" name=""/>
          <p:cNvGrpSpPr/>
          <p:nvPr/>
        </p:nvGrpSpPr>
        <p:grpSpPr>
          <a:xfrm>
            <a:off x="533520" y="5240160"/>
            <a:ext cx="3044160" cy="246240"/>
            <a:chOff x="533520" y="5240160"/>
            <a:chExt cx="3044160" cy="246240"/>
          </a:xfrm>
        </p:grpSpPr>
        <p:sp>
          <p:nvSpPr>
            <p:cNvPr id="421" name=""/>
            <p:cNvSpPr/>
            <p:nvPr/>
          </p:nvSpPr>
          <p:spPr>
            <a:xfrm>
              <a:off x="533520" y="5289480"/>
              <a:ext cx="380880" cy="1494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053000" y="5240160"/>
              <a:ext cx="252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RML Nodes: Persistent, Undoable St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71680" y="5562720"/>
            <a:ext cx="3928320" cy="246240"/>
            <a:chOff x="571680" y="5562720"/>
            <a:chExt cx="3928320" cy="246240"/>
          </a:xfrm>
        </p:grpSpPr>
        <p:sp>
          <p:nvSpPr>
            <p:cNvPr id="424" name=""/>
            <p:cNvSpPr/>
            <p:nvPr/>
          </p:nvSpPr>
          <p:spPr>
            <a:xfrm>
              <a:off x="571680" y="5622840"/>
              <a:ext cx="304560" cy="122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068480" y="5562720"/>
              <a:ext cx="343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: Encapsulate VTK Pipelines, Observe MRML Nod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27120" y="5829480"/>
            <a:ext cx="5996520" cy="246240"/>
            <a:chOff x="627120" y="5829480"/>
            <a:chExt cx="5996520" cy="246240"/>
          </a:xfrm>
        </p:grpSpPr>
        <p:sp>
          <p:nvSpPr>
            <p:cNvPr id="427" name=""/>
            <p:cNvSpPr/>
            <p:nvPr/>
          </p:nvSpPr>
          <p:spPr>
            <a:xfrm>
              <a:off x="627120" y="5837400"/>
              <a:ext cx="195120" cy="2286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66320" y="5829480"/>
              <a:ext cx="555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UI: Manage Widgets and Rendering; Manipulated Nodes and Logic; Observe Nodes and Log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1752480" y="1295280"/>
            <a:ext cx="1828800" cy="2057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3505320" y="1600200"/>
            <a:ext cx="1676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10080" y="1523880"/>
            <a:ext cx="3025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JKToRAS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lice Managemen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19810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52280" y="33526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52280" y="4191120"/>
            <a:ext cx="1371600" cy="533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Composit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09880" y="28954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791320" y="365760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"/>
          <p:cNvCxnSpPr>
            <a:stCxn id="437" idx="2"/>
            <a:endCxn id="435" idx="5"/>
          </p:cNvCxnSpPr>
          <p:nvPr/>
        </p:nvCxnSpPr>
        <p:spPr>
          <a:xfrm rot="5400000">
            <a:off x="3575880" y="1860120"/>
            <a:ext cx="532440" cy="5041080"/>
          </a:xfrm>
          <a:prstGeom prst="bentConnector3">
            <a:avLst>
              <a:gd name="adj1" fmla="val 1575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9" name=""/>
          <p:cNvCxnSpPr>
            <a:stCxn id="437" idx="2"/>
            <a:endCxn id="434" idx="5"/>
          </p:cNvCxnSpPr>
          <p:nvPr/>
        </p:nvCxnSpPr>
        <p:spPr>
          <a:xfrm flipV="1" rot="16200000">
            <a:off x="3688920" y="1440720"/>
            <a:ext cx="306720" cy="5041080"/>
          </a:xfrm>
          <a:prstGeom prst="bentConnector3">
            <a:avLst>
              <a:gd name="adj1" fmla="val -746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33" idx="1"/>
            <a:endCxn id="441" idx="5"/>
          </p:cNvCxnSpPr>
          <p:nvPr/>
        </p:nvCxnSpPr>
        <p:spPr>
          <a:xfrm rot="10800000">
            <a:off x="3150360" y="20552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"/>
          <p:cNvSpPr/>
          <p:nvPr/>
        </p:nvSpPr>
        <p:spPr>
          <a:xfrm>
            <a:off x="304920" y="15238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81080" y="16002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"/>
          <p:cNvCxnSpPr>
            <a:stCxn id="441" idx="3"/>
            <a:endCxn id="442" idx="5"/>
          </p:cNvCxnSpPr>
          <p:nvPr/>
        </p:nvCxnSpPr>
        <p:spPr>
          <a:xfrm flipV="1" rot="16200000">
            <a:off x="1790280" y="16635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304920" y="24382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81080" y="25146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"/>
          <p:cNvCxnSpPr>
            <a:stCxn id="445" idx="3"/>
            <a:endCxn id="444" idx="5"/>
          </p:cNvCxnSpPr>
          <p:nvPr/>
        </p:nvCxnSpPr>
        <p:spPr>
          <a:xfrm flipV="1" rot="16200000">
            <a:off x="1790280" y="25779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"/>
          <p:cNvCxnSpPr>
            <a:stCxn id="436" idx="1"/>
            <a:endCxn id="445" idx="5"/>
          </p:cNvCxnSpPr>
          <p:nvPr/>
        </p:nvCxnSpPr>
        <p:spPr>
          <a:xfrm rot="10800000">
            <a:off x="3150360" y="29696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37" idx="1"/>
            <a:endCxn id="436" idx="3"/>
          </p:cNvCxnSpPr>
          <p:nvPr/>
        </p:nvCxnSpPr>
        <p:spPr>
          <a:xfrm rot="10800000">
            <a:off x="4952160" y="3123360"/>
            <a:ext cx="8391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37" idx="1"/>
            <a:endCxn id="433" idx="3"/>
          </p:cNvCxnSpPr>
          <p:nvPr/>
        </p:nvCxnSpPr>
        <p:spPr>
          <a:xfrm rot="10800000">
            <a:off x="4952160" y="2208960"/>
            <a:ext cx="839160" cy="1677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7696080" y="3352680"/>
            <a:ext cx="914400" cy="1067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GU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1"/>
            <a:endCxn id="437" idx="3"/>
          </p:cNvCxnSpPr>
          <p:nvPr/>
        </p:nvCxnSpPr>
        <p:spPr>
          <a:xfrm flipH="1">
            <a:off x="6933960" y="3885840"/>
            <a:ext cx="76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2" name=""/>
          <p:cNvGrpSpPr/>
          <p:nvPr/>
        </p:nvGrpSpPr>
        <p:grpSpPr>
          <a:xfrm>
            <a:off x="533520" y="5240160"/>
            <a:ext cx="3044160" cy="246240"/>
            <a:chOff x="533520" y="5240160"/>
            <a:chExt cx="3044160" cy="246240"/>
          </a:xfrm>
        </p:grpSpPr>
        <p:sp>
          <p:nvSpPr>
            <p:cNvPr id="453" name=""/>
            <p:cNvSpPr/>
            <p:nvPr/>
          </p:nvSpPr>
          <p:spPr>
            <a:xfrm>
              <a:off x="533520" y="5289480"/>
              <a:ext cx="380880" cy="1494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53000" y="5240160"/>
              <a:ext cx="252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RML Nodes: Persistent, Undoable St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571680" y="5562720"/>
            <a:ext cx="3928320" cy="246240"/>
            <a:chOff x="571680" y="5562720"/>
            <a:chExt cx="3928320" cy="246240"/>
          </a:xfrm>
        </p:grpSpPr>
        <p:sp>
          <p:nvSpPr>
            <p:cNvPr id="456" name=""/>
            <p:cNvSpPr/>
            <p:nvPr/>
          </p:nvSpPr>
          <p:spPr>
            <a:xfrm>
              <a:off x="571680" y="5622840"/>
              <a:ext cx="304560" cy="122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068480" y="5562720"/>
              <a:ext cx="343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: Encapsulate VTK Pipelines, Observe MRML Nod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627120" y="5829480"/>
            <a:ext cx="5996520" cy="246240"/>
            <a:chOff x="627120" y="5829480"/>
            <a:chExt cx="5996520" cy="246240"/>
          </a:xfrm>
        </p:grpSpPr>
        <p:sp>
          <p:nvSpPr>
            <p:cNvPr id="459" name=""/>
            <p:cNvSpPr/>
            <p:nvPr/>
          </p:nvSpPr>
          <p:spPr>
            <a:xfrm>
              <a:off x="627120" y="5837400"/>
              <a:ext cx="195120" cy="2286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066320" y="5829480"/>
              <a:ext cx="555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UI: Manage Widgets and Rendering; Manipulated Nodes and Logic; Observe Nodes and Log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3505320" y="1600200"/>
            <a:ext cx="5410080" cy="2133720"/>
            <a:chOff x="3505320" y="1600200"/>
            <a:chExt cx="5410080" cy="2133720"/>
          </a:xfrm>
        </p:grpSpPr>
        <p:sp>
          <p:nvSpPr>
            <p:cNvPr id="462" name=""/>
            <p:cNvSpPr/>
            <p:nvPr/>
          </p:nvSpPr>
          <p:spPr>
            <a:xfrm>
              <a:off x="3505320" y="1676520"/>
              <a:ext cx="1828800" cy="2057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257440" y="1828800"/>
              <a:ext cx="6094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89600" y="1600200"/>
              <a:ext cx="3025800" cy="14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peline with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kImageResl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kImageMapToWindowLevelCol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kImageMapToRG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lice Managemen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809880" y="19810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52280" y="33526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52280" y="4191120"/>
            <a:ext cx="1371600" cy="533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Composit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809880" y="28954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791320" y="365760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70" idx="2"/>
            <a:endCxn id="468" idx="5"/>
          </p:cNvCxnSpPr>
          <p:nvPr/>
        </p:nvCxnSpPr>
        <p:spPr>
          <a:xfrm rot="5400000">
            <a:off x="3575880" y="1860120"/>
            <a:ext cx="532440" cy="5041080"/>
          </a:xfrm>
          <a:prstGeom prst="bentConnector3">
            <a:avLst>
              <a:gd name="adj1" fmla="val 1575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2" name=""/>
          <p:cNvCxnSpPr>
            <a:stCxn id="470" idx="2"/>
            <a:endCxn id="467" idx="5"/>
          </p:cNvCxnSpPr>
          <p:nvPr/>
        </p:nvCxnSpPr>
        <p:spPr>
          <a:xfrm flipV="1" rot="16200000">
            <a:off x="3688920" y="1440720"/>
            <a:ext cx="306720" cy="5041080"/>
          </a:xfrm>
          <a:prstGeom prst="bentConnector3">
            <a:avLst>
              <a:gd name="adj1" fmla="val -746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66" idx="1"/>
            <a:endCxn id="474" idx="5"/>
          </p:cNvCxnSpPr>
          <p:nvPr/>
        </p:nvCxnSpPr>
        <p:spPr>
          <a:xfrm rot="10800000">
            <a:off x="3150360" y="20552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304920" y="15238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81080" y="16002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6" name=""/>
          <p:cNvCxnSpPr>
            <a:stCxn id="474" idx="3"/>
            <a:endCxn id="475" idx="5"/>
          </p:cNvCxnSpPr>
          <p:nvPr/>
        </p:nvCxnSpPr>
        <p:spPr>
          <a:xfrm flipV="1" rot="16200000">
            <a:off x="1790280" y="16635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304920" y="24382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25146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"/>
          <p:cNvCxnSpPr>
            <a:stCxn id="478" idx="3"/>
            <a:endCxn id="477" idx="5"/>
          </p:cNvCxnSpPr>
          <p:nvPr/>
        </p:nvCxnSpPr>
        <p:spPr>
          <a:xfrm flipV="1" rot="16200000">
            <a:off x="1790280" y="25779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69" idx="1"/>
            <a:endCxn id="478" idx="5"/>
          </p:cNvCxnSpPr>
          <p:nvPr/>
        </p:nvCxnSpPr>
        <p:spPr>
          <a:xfrm rot="10800000">
            <a:off x="3150360" y="29696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70" idx="1"/>
            <a:endCxn id="469" idx="3"/>
          </p:cNvCxnSpPr>
          <p:nvPr/>
        </p:nvCxnSpPr>
        <p:spPr>
          <a:xfrm rot="10800000">
            <a:off x="4952160" y="3123360"/>
            <a:ext cx="8391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"/>
          <p:cNvCxnSpPr>
            <a:stCxn id="470" idx="1"/>
            <a:endCxn id="466" idx="3"/>
          </p:cNvCxnSpPr>
          <p:nvPr/>
        </p:nvCxnSpPr>
        <p:spPr>
          <a:xfrm rot="10800000">
            <a:off x="4952160" y="2208960"/>
            <a:ext cx="839160" cy="1677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7696080" y="3352680"/>
            <a:ext cx="914400" cy="1067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GU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"/>
          <p:cNvCxnSpPr>
            <a:stCxn id="483" idx="1"/>
            <a:endCxn id="470" idx="3"/>
          </p:cNvCxnSpPr>
          <p:nvPr/>
        </p:nvCxnSpPr>
        <p:spPr>
          <a:xfrm flipH="1">
            <a:off x="6933960" y="3885840"/>
            <a:ext cx="76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85" name=""/>
          <p:cNvGrpSpPr/>
          <p:nvPr/>
        </p:nvGrpSpPr>
        <p:grpSpPr>
          <a:xfrm>
            <a:off x="533520" y="5240160"/>
            <a:ext cx="3044160" cy="246240"/>
            <a:chOff x="533520" y="5240160"/>
            <a:chExt cx="3044160" cy="246240"/>
          </a:xfrm>
        </p:grpSpPr>
        <p:sp>
          <p:nvSpPr>
            <p:cNvPr id="486" name=""/>
            <p:cNvSpPr/>
            <p:nvPr/>
          </p:nvSpPr>
          <p:spPr>
            <a:xfrm>
              <a:off x="533520" y="5289480"/>
              <a:ext cx="380880" cy="1494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53000" y="5240160"/>
              <a:ext cx="252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RML Nodes: Persistent, Undoable St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71680" y="5562720"/>
            <a:ext cx="3928320" cy="246240"/>
            <a:chOff x="571680" y="5562720"/>
            <a:chExt cx="3928320" cy="246240"/>
          </a:xfrm>
        </p:grpSpPr>
        <p:sp>
          <p:nvSpPr>
            <p:cNvPr id="489" name=""/>
            <p:cNvSpPr/>
            <p:nvPr/>
          </p:nvSpPr>
          <p:spPr>
            <a:xfrm>
              <a:off x="571680" y="5622840"/>
              <a:ext cx="304560" cy="122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068480" y="5562720"/>
              <a:ext cx="343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: Encapsulate VTK Pipelines, Observe MRML Nod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27120" y="5829480"/>
            <a:ext cx="5996520" cy="246240"/>
            <a:chOff x="627120" y="5829480"/>
            <a:chExt cx="5996520" cy="246240"/>
          </a:xfrm>
        </p:grpSpPr>
        <p:sp>
          <p:nvSpPr>
            <p:cNvPr id="492" name=""/>
            <p:cNvSpPr/>
            <p:nvPr/>
          </p:nvSpPr>
          <p:spPr>
            <a:xfrm>
              <a:off x="627120" y="5837400"/>
              <a:ext cx="195120" cy="2286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066320" y="5829480"/>
              <a:ext cx="555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UI: Manage Widgets and Rendering; Manipulated Nodes and Logic; Observe Nodes and Log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5410080" y="3429000"/>
            <a:ext cx="182880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5714640" y="1828800"/>
            <a:ext cx="15228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889600" y="1600200"/>
            <a:ext cx="3025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peline wit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tkImageBl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lice Managemen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09880" y="19810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2280" y="33526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52280" y="4191120"/>
            <a:ext cx="1371600" cy="533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Composit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809880" y="28954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791320" y="365760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"/>
          <p:cNvCxnSpPr>
            <a:stCxn id="502" idx="2"/>
            <a:endCxn id="500" idx="5"/>
          </p:cNvCxnSpPr>
          <p:nvPr/>
        </p:nvCxnSpPr>
        <p:spPr>
          <a:xfrm rot="5400000">
            <a:off x="3575880" y="1860120"/>
            <a:ext cx="532440" cy="5041080"/>
          </a:xfrm>
          <a:prstGeom prst="bentConnector3">
            <a:avLst>
              <a:gd name="adj1" fmla="val 1575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502" idx="2"/>
            <a:endCxn id="499" idx="5"/>
          </p:cNvCxnSpPr>
          <p:nvPr/>
        </p:nvCxnSpPr>
        <p:spPr>
          <a:xfrm flipV="1" rot="16200000">
            <a:off x="3688920" y="1440720"/>
            <a:ext cx="306720" cy="5041080"/>
          </a:xfrm>
          <a:prstGeom prst="bentConnector3">
            <a:avLst>
              <a:gd name="adj1" fmla="val -746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498" idx="1"/>
            <a:endCxn id="506" idx="5"/>
          </p:cNvCxnSpPr>
          <p:nvPr/>
        </p:nvCxnSpPr>
        <p:spPr>
          <a:xfrm rot="10800000">
            <a:off x="3150360" y="20552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304920" y="15238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81080" y="16002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506" idx="3"/>
            <a:endCxn id="507" idx="5"/>
          </p:cNvCxnSpPr>
          <p:nvPr/>
        </p:nvCxnSpPr>
        <p:spPr>
          <a:xfrm flipV="1" rot="16200000">
            <a:off x="1790280" y="16635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304920" y="24382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981080" y="25146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"/>
          <p:cNvCxnSpPr>
            <a:stCxn id="510" idx="3"/>
            <a:endCxn id="509" idx="5"/>
          </p:cNvCxnSpPr>
          <p:nvPr/>
        </p:nvCxnSpPr>
        <p:spPr>
          <a:xfrm flipV="1" rot="16200000">
            <a:off x="1790280" y="25779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1" idx="1"/>
            <a:endCxn id="510" idx="5"/>
          </p:cNvCxnSpPr>
          <p:nvPr/>
        </p:nvCxnSpPr>
        <p:spPr>
          <a:xfrm rot="10800000">
            <a:off x="3150360" y="29696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2" idx="1"/>
            <a:endCxn id="501" idx="3"/>
          </p:cNvCxnSpPr>
          <p:nvPr/>
        </p:nvCxnSpPr>
        <p:spPr>
          <a:xfrm rot="10800000">
            <a:off x="4952160" y="3123360"/>
            <a:ext cx="8391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2" idx="1"/>
            <a:endCxn id="498" idx="3"/>
          </p:cNvCxnSpPr>
          <p:nvPr/>
        </p:nvCxnSpPr>
        <p:spPr>
          <a:xfrm rot="10800000">
            <a:off x="4952160" y="2208960"/>
            <a:ext cx="839160" cy="1677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5" name=""/>
          <p:cNvSpPr/>
          <p:nvPr/>
        </p:nvSpPr>
        <p:spPr>
          <a:xfrm>
            <a:off x="7696080" y="3352680"/>
            <a:ext cx="914400" cy="1067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GU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"/>
          <p:cNvCxnSpPr>
            <a:stCxn id="515" idx="1"/>
            <a:endCxn id="502" idx="3"/>
          </p:cNvCxnSpPr>
          <p:nvPr/>
        </p:nvCxnSpPr>
        <p:spPr>
          <a:xfrm flipH="1">
            <a:off x="6933960" y="3885840"/>
            <a:ext cx="76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17" name=""/>
          <p:cNvGrpSpPr/>
          <p:nvPr/>
        </p:nvGrpSpPr>
        <p:grpSpPr>
          <a:xfrm>
            <a:off x="533520" y="5240160"/>
            <a:ext cx="3044160" cy="246240"/>
            <a:chOff x="533520" y="5240160"/>
            <a:chExt cx="3044160" cy="246240"/>
          </a:xfrm>
        </p:grpSpPr>
        <p:sp>
          <p:nvSpPr>
            <p:cNvPr id="518" name=""/>
            <p:cNvSpPr/>
            <p:nvPr/>
          </p:nvSpPr>
          <p:spPr>
            <a:xfrm>
              <a:off x="533520" y="5289480"/>
              <a:ext cx="380880" cy="1494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053000" y="5240160"/>
              <a:ext cx="252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RML Nodes: Persistent, Undoable St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571680" y="5562720"/>
            <a:ext cx="3928320" cy="246240"/>
            <a:chOff x="571680" y="5562720"/>
            <a:chExt cx="3928320" cy="246240"/>
          </a:xfrm>
        </p:grpSpPr>
        <p:sp>
          <p:nvSpPr>
            <p:cNvPr id="521" name=""/>
            <p:cNvSpPr/>
            <p:nvPr/>
          </p:nvSpPr>
          <p:spPr>
            <a:xfrm>
              <a:off x="571680" y="5622840"/>
              <a:ext cx="304560" cy="122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068480" y="5562720"/>
              <a:ext cx="343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: Encapsulate VTK Pipelines, Observe MRML Nod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27120" y="5829480"/>
            <a:ext cx="5996520" cy="246240"/>
            <a:chOff x="627120" y="5829480"/>
            <a:chExt cx="5996520" cy="246240"/>
          </a:xfrm>
        </p:grpSpPr>
        <p:sp>
          <p:nvSpPr>
            <p:cNvPr id="524" name=""/>
            <p:cNvSpPr/>
            <p:nvPr/>
          </p:nvSpPr>
          <p:spPr>
            <a:xfrm>
              <a:off x="627120" y="5837400"/>
              <a:ext cx="195120" cy="2286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66320" y="5829480"/>
              <a:ext cx="555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UI: Manage Widgets and Rendering; Manipulated Nodes and Logic; Observe Nodes and Log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7467480" y="3048120"/>
            <a:ext cx="1371600" cy="1676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238880" y="297180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889600" y="1600200"/>
            <a:ext cx="30258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ControllerWidget (Menus, Scale, Buttons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Viewer (RenderWidget, ImageMapper, ImageActor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Undo Architecture for Slicer3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ing “Commit Aside” Strategy Encapsulated within MR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“Initial Scene” (from file) and “Delta Scenes” (scenes containing undoabl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ta Scenes ‘are’ MRML Sce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Nodes are Referenc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 the MRML scene in the Application Logic causes the cascade of observer callba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All Undoable operations must store their data as MRML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Undo Implementa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666880"/>
            <a:ext cx="152388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S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876920" y="1523880"/>
            <a:ext cx="1981080" cy="6098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ML S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81160" y="3733920"/>
            <a:ext cx="533520" cy="533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81160" y="4533840"/>
            <a:ext cx="53352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181160" y="5334120"/>
            <a:ext cx="533520" cy="533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514600" y="2666880"/>
            <a:ext cx="152388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ta1 S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009960" y="4533840"/>
            <a:ext cx="53352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67080" y="2666880"/>
            <a:ext cx="152424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ta2 S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62440" y="5334120"/>
            <a:ext cx="533520" cy="533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752480" y="213372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76720" y="2133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809880" y="213372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666880"/>
            <a:ext cx="152388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d S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201080" y="3733920"/>
            <a:ext cx="533160" cy="533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201080" y="4533840"/>
            <a:ext cx="53316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201080" y="5334120"/>
            <a:ext cx="533160" cy="533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590920" y="1600200"/>
            <a:ext cx="14475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o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190760" y="1828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828800" y="3352680"/>
            <a:ext cx="1447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3200400" y="3352680"/>
            <a:ext cx="76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1752480" y="3352680"/>
            <a:ext cx="152424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1752480" y="3352680"/>
            <a:ext cx="3200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3504960" y="3352680"/>
            <a:ext cx="1523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02920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505640" y="1523880"/>
            <a:ext cx="1219320" cy="449604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4496040"/>
              <a:gd name="textAreaBottom" fmla="*/ 4436640 h 4496040"/>
            </a:gdLst>
            <a:ahLst/>
            <a:rect l="textAreaLeft" t="textAreaTop" r="textAreaRight" b="textAreaBottom"/>
            <a:pathLst>
              <a:path w="21600" h="79629">
                <a:moveTo>
                  <a:pt x="3600" y="0"/>
                </a:moveTo>
                <a:arcTo wR="3600" hR="3600" stAng="16200000" swAng="-5400000"/>
                <a:lnTo>
                  <a:pt x="0" y="76029"/>
                </a:lnTo>
                <a:arcTo wR="3600" hR="3600" stAng="10800000" swAng="-5400000"/>
                <a:lnTo>
                  <a:pt x="18000" y="796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25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12960" y="1523880"/>
            <a:ext cx="5578560" cy="4496040"/>
          </a:xfrm>
          <a:prstGeom prst="rect">
            <a:avLst/>
          </a:prstGeom>
          <a:solidFill>
            <a:srgbClr val="ffff99">
              <a:alpha val="31000"/>
            </a:srgbClr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523880"/>
            <a:ext cx="1279800" cy="4496040"/>
          </a:xfrm>
          <a:prstGeom prst="rect">
            <a:avLst/>
          </a:prstGeom>
          <a:solidFill>
            <a:srgbClr val="ffff99">
              <a:alpha val="31000"/>
            </a:srgbClr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26885"/>
          <a:stretch/>
        </p:blipFill>
        <p:spPr>
          <a:xfrm>
            <a:off x="801720" y="5481720"/>
            <a:ext cx="438120" cy="460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0" t="0" r="0" b="26885"/>
          <a:stretch/>
        </p:blipFill>
        <p:spPr>
          <a:xfrm>
            <a:off x="4365720" y="5481720"/>
            <a:ext cx="474480" cy="461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0" t="0" r="0" b="26025"/>
          <a:stretch/>
        </p:blipFill>
        <p:spPr>
          <a:xfrm>
            <a:off x="7831080" y="5481720"/>
            <a:ext cx="566640" cy="460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694640" y="1749600"/>
            <a:ext cx="914400" cy="48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k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6520" y="1757520"/>
            <a:ext cx="1030320" cy="473040"/>
          </a:xfrm>
          <a:prstGeom prst="rect">
            <a:avLst/>
          </a:prstGeom>
          <a:solidFill>
            <a:srgbClr val="ffffff"/>
          </a:solidFill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59120" y="1757520"/>
            <a:ext cx="1030320" cy="473040"/>
          </a:xfrm>
          <a:prstGeom prst="rect">
            <a:avLst/>
          </a:prstGeom>
          <a:solidFill>
            <a:srgbClr val="ffffff"/>
          </a:solidFill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08400" y="1757520"/>
            <a:ext cx="1030320" cy="473040"/>
          </a:xfrm>
          <a:prstGeom prst="rect">
            <a:avLst/>
          </a:prstGeom>
          <a:solidFill>
            <a:srgbClr val="ffffff"/>
          </a:solidFill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T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00520" y="1757520"/>
            <a:ext cx="1030320" cy="473040"/>
          </a:xfrm>
          <a:prstGeom prst="rect">
            <a:avLst/>
          </a:prstGeom>
          <a:solidFill>
            <a:srgbClr val="ffffff"/>
          </a:solidFill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0" idx="3"/>
            <a:endCxn id="141" idx="1"/>
          </p:cNvCxnSpPr>
          <p:nvPr/>
        </p:nvCxnSpPr>
        <p:spPr>
          <a:xfrm>
            <a:off x="1555560" y="1993680"/>
            <a:ext cx="384840" cy="1080"/>
          </a:xfrm>
          <a:prstGeom prst="bentConnector2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cxnSp>
        <p:nvCxnSpPr>
          <p:cNvPr id="145" name=""/>
          <p:cNvCxnSpPr>
            <a:stCxn id="141" idx="3"/>
            <a:endCxn id="142" idx="1"/>
          </p:cNvCxnSpPr>
          <p:nvPr/>
        </p:nvCxnSpPr>
        <p:spPr>
          <a:xfrm>
            <a:off x="3007800" y="1993680"/>
            <a:ext cx="281880" cy="1080"/>
          </a:xfrm>
          <a:prstGeom prst="bentConnector2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cxnSp>
        <p:nvCxnSpPr>
          <p:cNvPr id="146" name=""/>
          <p:cNvCxnSpPr>
            <a:stCxn id="142" idx="3"/>
            <a:endCxn id="143" idx="1"/>
          </p:cNvCxnSpPr>
          <p:nvPr/>
        </p:nvCxnSpPr>
        <p:spPr>
          <a:xfrm>
            <a:off x="4357440" y="1993680"/>
            <a:ext cx="324360" cy="1080"/>
          </a:xfrm>
          <a:prstGeom prst="bentConnector2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cxnSp>
        <p:nvCxnSpPr>
          <p:cNvPr id="147" name=""/>
          <p:cNvCxnSpPr>
            <a:stCxn id="143" idx="3"/>
            <a:endCxn id="138" idx="1"/>
          </p:cNvCxnSpPr>
          <p:nvPr/>
        </p:nvCxnSpPr>
        <p:spPr>
          <a:xfrm>
            <a:off x="5749920" y="1993680"/>
            <a:ext cx="1931040" cy="1080"/>
          </a:xfrm>
          <a:prstGeom prst="bentConnector2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sp>
        <p:nvSpPr>
          <p:cNvPr id="148" name=""/>
          <p:cNvSpPr/>
          <p:nvPr/>
        </p:nvSpPr>
        <p:spPr>
          <a:xfrm>
            <a:off x="3308400" y="3122640"/>
            <a:ext cx="1030320" cy="473040"/>
          </a:xfrm>
          <a:prstGeom prst="rect">
            <a:avLst/>
          </a:prstGeom>
          <a:solidFill>
            <a:srgbClr val="ffffff"/>
          </a:solidFill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TK Ap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IT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99080" y="2575080"/>
            <a:ext cx="1030320" cy="473040"/>
          </a:xfrm>
          <a:prstGeom prst="rect">
            <a:avLst/>
          </a:prstGeom>
          <a:solidFill>
            <a:srgbClr val="ffffff"/>
          </a:solidFill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ripts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r M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59120" y="3672000"/>
            <a:ext cx="1030320" cy="473040"/>
          </a:xfrm>
          <a:prstGeom prst="rect">
            <a:avLst/>
          </a:prstGeom>
          <a:solidFill>
            <a:srgbClr val="ffffff"/>
          </a:solidFill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3120" y="4191120"/>
            <a:ext cx="1030320" cy="473040"/>
          </a:xfrm>
          <a:prstGeom prst="rect">
            <a:avLst/>
          </a:prstGeom>
          <a:solidFill>
            <a:srgbClr val="ffffff"/>
          </a:solidFill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NA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39000" y="4191120"/>
            <a:ext cx="1029960" cy="473040"/>
          </a:xfrm>
          <a:prstGeom prst="rect">
            <a:avLst/>
          </a:prstGeom>
          <a:solidFill>
            <a:srgbClr val="ffffff"/>
          </a:solidFill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5029200"/>
            <a:ext cx="1371600" cy="473040"/>
          </a:xfrm>
          <a:prstGeom prst="rect">
            <a:avLst/>
          </a:prstGeom>
          <a:solidFill>
            <a:srgbClr val="ffffff"/>
          </a:solidFill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rn G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/Comp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41" idx="2"/>
            <a:endCxn id="150" idx="0"/>
          </p:cNvCxnSpPr>
          <p:nvPr/>
        </p:nvCxnSpPr>
        <p:spPr>
          <a:xfrm flipV="1" rot="10800000">
            <a:off x="2474280" y="2249280"/>
            <a:ext cx="1080" cy="1404000"/>
          </a:xfrm>
          <a:prstGeom prst="bentConnector2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cxnSp>
        <p:nvCxnSpPr>
          <p:cNvPr id="155" name=""/>
          <p:cNvCxnSpPr>
            <a:stCxn id="142" idx="2"/>
            <a:endCxn id="148" idx="0"/>
          </p:cNvCxnSpPr>
          <p:nvPr/>
        </p:nvCxnSpPr>
        <p:spPr>
          <a:xfrm flipV="1" rot="10800000">
            <a:off x="3823560" y="2249280"/>
            <a:ext cx="1080" cy="854640"/>
          </a:xfrm>
          <a:prstGeom prst="bentConnector2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cxnSp>
        <p:nvCxnSpPr>
          <p:cNvPr id="156" name=""/>
          <p:cNvCxnSpPr>
            <a:stCxn id="143" idx="2"/>
            <a:endCxn id="149" idx="0"/>
          </p:cNvCxnSpPr>
          <p:nvPr/>
        </p:nvCxnSpPr>
        <p:spPr>
          <a:xfrm flipH="1">
            <a:off x="5214600" y="2249280"/>
            <a:ext cx="2160" cy="30672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cxnSp>
        <p:nvCxnSpPr>
          <p:cNvPr id="157" name=""/>
          <p:cNvCxnSpPr>
            <a:stCxn id="149" idx="3"/>
            <a:endCxn id="152" idx="0"/>
          </p:cNvCxnSpPr>
          <p:nvPr/>
        </p:nvCxnSpPr>
        <p:spPr>
          <a:xfrm>
            <a:off x="5748480" y="2811240"/>
            <a:ext cx="807120" cy="1360800"/>
          </a:xfrm>
          <a:prstGeom prst="bentConnector2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cxnSp>
        <p:nvCxnSpPr>
          <p:cNvPr id="158" name=""/>
          <p:cNvCxnSpPr>
            <a:stCxn id="151" idx="3"/>
            <a:endCxn id="152" idx="1"/>
          </p:cNvCxnSpPr>
          <p:nvPr/>
        </p:nvCxnSpPr>
        <p:spPr>
          <a:xfrm>
            <a:off x="5762160" y="4427280"/>
            <a:ext cx="258120" cy="1080"/>
          </a:xfrm>
          <a:prstGeom prst="bentConnector2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cxnSp>
        <p:nvCxnSpPr>
          <p:cNvPr id="159" name=""/>
          <p:cNvCxnSpPr>
            <a:stCxn id="152" idx="2"/>
            <a:endCxn id="153" idx="0"/>
          </p:cNvCxnSpPr>
          <p:nvPr/>
        </p:nvCxnSpPr>
        <p:spPr>
          <a:xfrm flipH="1">
            <a:off x="6552360" y="4683240"/>
            <a:ext cx="2520" cy="32760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cxnSp>
        <p:nvCxnSpPr>
          <p:cNvPr id="160" name=""/>
          <p:cNvCxnSpPr>
            <a:stCxn id="152" idx="3"/>
            <a:endCxn id="138" idx="2"/>
          </p:cNvCxnSpPr>
          <p:nvPr/>
        </p:nvCxnSpPr>
        <p:spPr>
          <a:xfrm flipV="1">
            <a:off x="7087680" y="2252160"/>
            <a:ext cx="1064520" cy="2175840"/>
          </a:xfrm>
          <a:prstGeom prst="bentConnector2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cxnSp>
        <p:nvCxnSpPr>
          <p:cNvPr id="161" name=""/>
          <p:cNvCxnSpPr>
            <a:stCxn id="153" idx="3"/>
            <a:endCxn id="138" idx="2"/>
          </p:cNvCxnSpPr>
          <p:nvPr/>
        </p:nvCxnSpPr>
        <p:spPr>
          <a:xfrm flipV="1">
            <a:off x="7257600" y="2252160"/>
            <a:ext cx="894600" cy="3013920"/>
          </a:xfrm>
          <a:prstGeom prst="bentConnector2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cxnSp>
        <p:nvCxnSpPr>
          <p:cNvPr id="162" name=""/>
          <p:cNvCxnSpPr>
            <a:stCxn id="148" idx="3"/>
            <a:endCxn id="152" idx="0"/>
          </p:cNvCxnSpPr>
          <p:nvPr/>
        </p:nvCxnSpPr>
        <p:spPr>
          <a:xfrm>
            <a:off x="4357440" y="3359160"/>
            <a:ext cx="2197800" cy="813600"/>
          </a:xfrm>
          <a:prstGeom prst="bentConnector2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cxnSp>
        <p:nvCxnSpPr>
          <p:cNvPr id="163" name=""/>
          <p:cNvCxnSpPr>
            <a:stCxn id="150" idx="3"/>
            <a:endCxn id="152" idx="0"/>
          </p:cNvCxnSpPr>
          <p:nvPr/>
        </p:nvCxnSpPr>
        <p:spPr>
          <a:xfrm>
            <a:off x="3008160" y="3908520"/>
            <a:ext cx="3547440" cy="264240"/>
          </a:xfrm>
          <a:prstGeom prst="bentConnector2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sp>
        <p:nvSpPr>
          <p:cNvPr id="164" name=""/>
          <p:cNvSpPr/>
          <p:nvPr/>
        </p:nvSpPr>
        <p:spPr>
          <a:xfrm>
            <a:off x="6039000" y="1752480"/>
            <a:ext cx="1029960" cy="473040"/>
          </a:xfrm>
          <a:prstGeom prst="rect">
            <a:avLst/>
          </a:prstGeom>
          <a:solidFill>
            <a:srgbClr val="ffffff"/>
          </a:solidFill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4" idx="2"/>
            <a:endCxn id="152" idx="0"/>
          </p:cNvCxnSpPr>
          <p:nvPr/>
        </p:nvCxnSpPr>
        <p:spPr>
          <a:xfrm flipV="1" rot="10800000">
            <a:off x="6554160" y="2244240"/>
            <a:ext cx="1080" cy="1928160"/>
          </a:xfrm>
          <a:prstGeom prst="bentConnector2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licer3 “Observer MVC” Patt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5257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R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cene Description and Applicatio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ML Nodes are Persistent and Undo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e and Nodes are Observ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capsulate VTK and ITK Pipelines (Control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MRML to Configure Pip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Create/Manag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UI Components (no Widgets, Actors, Mappers, Renderers or RenderWind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i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and Edit MR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 with User and Display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304812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38862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RML N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1828800"/>
            <a:ext cx="1676520" cy="9144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2209680"/>
            <a:ext cx="685800" cy="3812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ge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2209680"/>
            <a:ext cx="762120" cy="3812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nderer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8001000" y="29718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29718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47080" y="3352680"/>
            <a:ext cx="33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18800" y="32306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6705720" y="3627000"/>
            <a:ext cx="30456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61600" y="365760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324480" y="25146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4400" y="281952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095880" y="23623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2514600"/>
            <a:ext cx="336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02600" y="3809880"/>
            <a:ext cx="33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4572000"/>
            <a:ext cx="327672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serv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” means generic event mechanisms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used to pass inform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i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” means code can directly call metho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: GUI can call methods in Logic classes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 Logic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all GUI metho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RML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anno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Logic or GUI metho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can be many observers for any ev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657600" y="1828800"/>
            <a:ext cx="1143000" cy="228600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2819520"/>
            <a:ext cx="1600200" cy="1143000"/>
          </a:xfrm>
          <a:prstGeom prst="flowChart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685800"/>
            <a:ext cx="2438640" cy="30492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990720"/>
            <a:ext cx="914400" cy="10666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s to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R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TK (excep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der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34320" y="990720"/>
            <a:ext cx="914400" cy="10666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s to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TK Rend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WWidg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R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648320" y="14479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01440" y="152388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serve Modifi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723920" y="1828800"/>
            <a:ext cx="838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32440" y="220968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dit Mrml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cene/Nod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1447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8800" y="1447920"/>
            <a:ext cx="56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di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3200400"/>
            <a:ext cx="2438640" cy="30492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v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3505320"/>
            <a:ext cx="914400" cy="10666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s to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R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TK (excep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der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34320" y="3505320"/>
            <a:ext cx="914400" cy="10666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s to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TK Rend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WWidg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R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28800" y="3962520"/>
            <a:ext cx="56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di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36576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01840" y="2133720"/>
            <a:ext cx="1028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serve Modifi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vents on Applic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648320" y="380952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5240" y="403848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dit Mrml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cene/Nod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19810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010280" y="1905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934320" y="28195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isters GUI Event Observe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30040" y="342900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serve Modifi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1981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20120" y="2057400"/>
            <a:ext cx="1218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vide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ames for Widgets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outing of User Even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685800"/>
            <a:ext cx="2438640" cy="30492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Line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990720"/>
            <a:ext cx="914400" cy="106668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s to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Logic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R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990720"/>
            <a:ext cx="914400" cy="106668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s to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WWidge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1447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99600" y="1447920"/>
            <a:ext cx="56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di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2971800"/>
            <a:ext cx="1600200" cy="1143000"/>
          </a:xfrm>
          <a:prstGeom prst="flowChart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3124080"/>
            <a:ext cx="1600200" cy="1143000"/>
          </a:xfrm>
          <a:prstGeom prst="flowChart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3352680"/>
            <a:ext cx="1981440" cy="1219320"/>
          </a:xfrm>
          <a:prstGeom prst="flowChart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ecution Model Mod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s executables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 shared libr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ort –xml qu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02320" y="762120"/>
            <a:ext cx="1143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Managed b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ase and communicat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ke other Modules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33520" y="19807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2362320"/>
            <a:ext cx="914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scribe Input options (us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-xml option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1981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2133720"/>
            <a:ext cx="914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ormulates Command Li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d passes da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219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666880" y="3504960"/>
            <a:ext cx="10670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05160" y="2666880"/>
            <a:ext cx="11682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ack-door to MRML with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RMLIDImageI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TK IO Factory Libra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Otherwise through files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mmand line options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666880" y="365760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21080" y="90360"/>
            <a:ext cx="54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cer 3 Architecture Diagram (updated 2007-01-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19320" y="960480"/>
            <a:ext cx="914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uto-Generated GUIs from XML Description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59720" y="5086440"/>
            <a:ext cx="5831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classes in the Logic directory should be able to run ‘headless’ without OpenGL or window system for scripting and tes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se Logic and GUI contain transient application state (cursor location, focus, mrml scene connection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sistent and Undoable state in MRML No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active Modules are ones which interact with the VTK scene and/or User ev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active Modules interact with 3D scene by creating objects in MRML scene (not by direct manipulation of the Rendere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ic classes encapsulate and manage internal vtk/itk pipelines and provide helper routines to create/manage no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I classes are implemented as KWWidget subcl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ach Logic class defines Get/Set methods for internal state and Modified Events that GUI classes can Obser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de in Base implements “first order” Node types (Volumes, Models, Transforms, Fiducials, Colors, etc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de in Modules provides application-specific extens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4952880"/>
            <a:ext cx="2514600" cy="12193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ernal Conne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socket connection directly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.g. MATLA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slicerget/slicerget utilit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.g. un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209680" y="380988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61960" y="3962520"/>
            <a:ext cx="15238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81400" y="4419720"/>
            <a:ext cx="909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licer Daemon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mmunication via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rver por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licer3 Slice Coordinat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7320" y="4098960"/>
            <a:ext cx="184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Y Image Space Coordin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RenderWind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52880" y="2286000"/>
            <a:ext cx="106704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23720" y="3276720"/>
            <a:ext cx="116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ce Coordin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38400" y="1981080"/>
            <a:ext cx="106668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12320" y="3048120"/>
            <a:ext cx="15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S to RAS Coordin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3809880"/>
            <a:ext cx="106668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1640" y="4876920"/>
            <a:ext cx="15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JK Volume Coordin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3048120"/>
            <a:ext cx="106668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4" idx="0"/>
            <a:endCxn id="238" idx="3"/>
          </p:cNvCxnSpPr>
          <p:nvPr/>
        </p:nvCxnSpPr>
        <p:spPr>
          <a:xfrm flipV="1" rot="16200000">
            <a:off x="6361920" y="2399760"/>
            <a:ext cx="305640" cy="99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8" idx="1"/>
          </p:cNvCxnSpPr>
          <p:nvPr/>
        </p:nvCxnSpPr>
        <p:spPr>
          <a:xfrm rot="10800000">
            <a:off x="3199680" y="2437560"/>
            <a:ext cx="1753200" cy="30564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40" idx="1"/>
            <a:endCxn id="240" idx="0"/>
          </p:cNvCxnSpPr>
          <p:nvPr/>
        </p:nvCxnSpPr>
        <p:spPr>
          <a:xfrm flipH="1" rot="10800000">
            <a:off x="2138040" y="1980360"/>
            <a:ext cx="534240" cy="457920"/>
          </a:xfrm>
          <a:prstGeom prst="curvedConnector5">
            <a:avLst>
              <a:gd name="adj1" fmla="val -42818"/>
              <a:gd name="adj2" fmla="val 74980"/>
              <a:gd name="adj3" fmla="val -428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endCxn id="242" idx="0"/>
          </p:cNvCxnSpPr>
          <p:nvPr/>
        </p:nvCxnSpPr>
        <p:spPr>
          <a:xfrm rot="5400000">
            <a:off x="1180440" y="2857320"/>
            <a:ext cx="1219680" cy="686520"/>
          </a:xfrm>
          <a:prstGeom prst="curvedConnector5">
            <a:avLst>
              <a:gd name="adj1" fmla="val 16002"/>
              <a:gd name="adj2" fmla="val 50000"/>
              <a:gd name="adj3" fmla="val 160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6402960" y="2438280"/>
            <a:ext cx="12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YToSlice Matr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41360" y="1905120"/>
            <a:ext cx="130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ToRAS Matr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32520" y="1447920"/>
            <a:ext cx="160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SToRAS Trans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0440" y="272736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SToIJK Matr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3040" y="4800600"/>
            <a:ext cx="52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JK = RASToIJK * RASToRAS * SliceToRAS * XYToSlice * 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791320" y="5486400"/>
            <a:ext cx="1275120" cy="246240"/>
            <a:chOff x="5791320" y="5486400"/>
            <a:chExt cx="1275120" cy="246240"/>
          </a:xfrm>
        </p:grpSpPr>
        <p:sp>
          <p:nvSpPr>
            <p:cNvPr id="255" name=""/>
            <p:cNvSpPr/>
            <p:nvPr/>
          </p:nvSpPr>
          <p:spPr>
            <a:xfrm>
              <a:off x="5791320" y="5535360"/>
              <a:ext cx="380880" cy="1490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11160" y="5486400"/>
              <a:ext cx="75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liceN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666880" y="5775480"/>
            <a:ext cx="5957640" cy="246240"/>
            <a:chOff x="2666880" y="5775480"/>
            <a:chExt cx="5957640" cy="246240"/>
          </a:xfrm>
        </p:grpSpPr>
        <p:sp>
          <p:nvSpPr>
            <p:cNvPr id="258" name=""/>
            <p:cNvSpPr/>
            <p:nvPr/>
          </p:nvSpPr>
          <p:spPr>
            <a:xfrm>
              <a:off x="2666880" y="5835600"/>
              <a:ext cx="304560" cy="122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66200" y="5775480"/>
              <a:ext cx="5458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YToIJK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trix Calculated by SliceLayerLogic      Coordinates are Cell Centered (no VTK flip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7543800" y="5334120"/>
            <a:ext cx="1178640" cy="246240"/>
            <a:chOff x="7543800" y="5334120"/>
            <a:chExt cx="1178640" cy="246240"/>
          </a:xfrm>
        </p:grpSpPr>
        <p:sp>
          <p:nvSpPr>
            <p:cNvPr id="261" name=""/>
            <p:cNvSpPr/>
            <p:nvPr/>
          </p:nvSpPr>
          <p:spPr>
            <a:xfrm>
              <a:off x="7543800" y="5342040"/>
              <a:ext cx="195120" cy="2286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85520" y="533412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GU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 flipH="1" flipV="1">
            <a:off x="7696080" y="51051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6095880" y="5181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6553080" y="5181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38440" y="4495680"/>
            <a:ext cx="180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JK = XYToIJK * 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133880" y="5486400"/>
            <a:ext cx="1579320" cy="246240"/>
            <a:chOff x="4133880" y="5486400"/>
            <a:chExt cx="1579320" cy="246240"/>
          </a:xfrm>
        </p:grpSpPr>
        <p:sp>
          <p:nvSpPr>
            <p:cNvPr id="268" name=""/>
            <p:cNvSpPr/>
            <p:nvPr/>
          </p:nvSpPr>
          <p:spPr>
            <a:xfrm>
              <a:off x="4133880" y="5535360"/>
              <a:ext cx="380880" cy="1490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53000" y="5486400"/>
              <a:ext cx="106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formN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 flipV="1">
            <a:off x="4876920" y="518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684520" y="5486400"/>
            <a:ext cx="1429200" cy="246240"/>
            <a:chOff x="2684520" y="5486400"/>
            <a:chExt cx="1429200" cy="246240"/>
          </a:xfrm>
        </p:grpSpPr>
        <p:sp>
          <p:nvSpPr>
            <p:cNvPr id="272" name=""/>
            <p:cNvSpPr/>
            <p:nvPr/>
          </p:nvSpPr>
          <p:spPr>
            <a:xfrm>
              <a:off x="2684520" y="5535360"/>
              <a:ext cx="380880" cy="1490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04360" y="5486400"/>
              <a:ext cx="90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olumeN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 flipV="1">
            <a:off x="3581280" y="518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lice Managemen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09880" y="19810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33526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4191120"/>
            <a:ext cx="1371600" cy="533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Composit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9880" y="28954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91320" y="365760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"/>
          <p:cNvCxnSpPr>
            <a:stCxn id="280" idx="2"/>
            <a:endCxn id="278" idx="5"/>
          </p:cNvCxnSpPr>
          <p:nvPr/>
        </p:nvCxnSpPr>
        <p:spPr>
          <a:xfrm rot="5400000">
            <a:off x="3575880" y="1860120"/>
            <a:ext cx="532440" cy="5041080"/>
          </a:xfrm>
          <a:prstGeom prst="bentConnector3">
            <a:avLst>
              <a:gd name="adj1" fmla="val 1575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80" idx="2"/>
            <a:endCxn id="277" idx="5"/>
          </p:cNvCxnSpPr>
          <p:nvPr/>
        </p:nvCxnSpPr>
        <p:spPr>
          <a:xfrm flipV="1" rot="16200000">
            <a:off x="3688920" y="1440720"/>
            <a:ext cx="306720" cy="5041080"/>
          </a:xfrm>
          <a:prstGeom prst="bentConnector3">
            <a:avLst>
              <a:gd name="adj1" fmla="val -746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6" idx="1"/>
            <a:endCxn id="284" idx="5"/>
          </p:cNvCxnSpPr>
          <p:nvPr/>
        </p:nvCxnSpPr>
        <p:spPr>
          <a:xfrm rot="10800000">
            <a:off x="3150360" y="20552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304920" y="15238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81080" y="16002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4" idx="3"/>
            <a:endCxn id="285" idx="5"/>
          </p:cNvCxnSpPr>
          <p:nvPr/>
        </p:nvCxnSpPr>
        <p:spPr>
          <a:xfrm flipV="1" rot="16200000">
            <a:off x="1790280" y="16635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304920" y="24382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25146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"/>
          <p:cNvCxnSpPr>
            <a:stCxn id="288" idx="3"/>
            <a:endCxn id="287" idx="5"/>
          </p:cNvCxnSpPr>
          <p:nvPr/>
        </p:nvCxnSpPr>
        <p:spPr>
          <a:xfrm flipV="1" rot="16200000">
            <a:off x="1790280" y="25779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79" idx="1"/>
            <a:endCxn id="288" idx="5"/>
          </p:cNvCxnSpPr>
          <p:nvPr/>
        </p:nvCxnSpPr>
        <p:spPr>
          <a:xfrm rot="10800000">
            <a:off x="3150360" y="29696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0" idx="1"/>
            <a:endCxn id="279" idx="3"/>
          </p:cNvCxnSpPr>
          <p:nvPr/>
        </p:nvCxnSpPr>
        <p:spPr>
          <a:xfrm rot="10800000">
            <a:off x="4952160" y="3123360"/>
            <a:ext cx="8391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80" idx="1"/>
            <a:endCxn id="276" idx="3"/>
          </p:cNvCxnSpPr>
          <p:nvPr/>
        </p:nvCxnSpPr>
        <p:spPr>
          <a:xfrm rot="10800000">
            <a:off x="4952160" y="2208960"/>
            <a:ext cx="839160" cy="1677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3" name=""/>
          <p:cNvSpPr/>
          <p:nvPr/>
        </p:nvSpPr>
        <p:spPr>
          <a:xfrm>
            <a:off x="7696080" y="3352680"/>
            <a:ext cx="914400" cy="1067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GU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3" idx="1"/>
            <a:endCxn id="280" idx="3"/>
          </p:cNvCxnSpPr>
          <p:nvPr/>
        </p:nvCxnSpPr>
        <p:spPr>
          <a:xfrm flipH="1">
            <a:off x="6933960" y="3885840"/>
            <a:ext cx="76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95" name=""/>
          <p:cNvGrpSpPr/>
          <p:nvPr/>
        </p:nvGrpSpPr>
        <p:grpSpPr>
          <a:xfrm>
            <a:off x="533520" y="5240160"/>
            <a:ext cx="3044160" cy="246240"/>
            <a:chOff x="533520" y="5240160"/>
            <a:chExt cx="3044160" cy="246240"/>
          </a:xfrm>
        </p:grpSpPr>
        <p:sp>
          <p:nvSpPr>
            <p:cNvPr id="296" name=""/>
            <p:cNvSpPr/>
            <p:nvPr/>
          </p:nvSpPr>
          <p:spPr>
            <a:xfrm>
              <a:off x="533520" y="5289480"/>
              <a:ext cx="380880" cy="1494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53000" y="5240160"/>
              <a:ext cx="252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RML Nodes: Persistent, Undoable St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71680" y="5562720"/>
            <a:ext cx="3928320" cy="246240"/>
            <a:chOff x="571680" y="5562720"/>
            <a:chExt cx="3928320" cy="246240"/>
          </a:xfrm>
        </p:grpSpPr>
        <p:sp>
          <p:nvSpPr>
            <p:cNvPr id="299" name=""/>
            <p:cNvSpPr/>
            <p:nvPr/>
          </p:nvSpPr>
          <p:spPr>
            <a:xfrm>
              <a:off x="571680" y="5622840"/>
              <a:ext cx="304560" cy="122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68480" y="5562720"/>
              <a:ext cx="343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: Encapsulate VTK Pipelines, Observe MRML Nod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27120" y="5829480"/>
            <a:ext cx="5996520" cy="246240"/>
            <a:chOff x="627120" y="5829480"/>
            <a:chExt cx="5996520" cy="246240"/>
          </a:xfrm>
        </p:grpSpPr>
        <p:sp>
          <p:nvSpPr>
            <p:cNvPr id="302" name=""/>
            <p:cNvSpPr/>
            <p:nvPr/>
          </p:nvSpPr>
          <p:spPr>
            <a:xfrm>
              <a:off x="627120" y="5837400"/>
              <a:ext cx="195120" cy="2286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66320" y="5829480"/>
              <a:ext cx="555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UI: Manage Widgets and Rendering; Manipulated Nodes and Logic; Observe Nodes and Log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lice Managemen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19810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2280" y="33526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2280" y="4191120"/>
            <a:ext cx="1371600" cy="533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Composit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09880" y="28954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365760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9" idx="2"/>
            <a:endCxn id="307" idx="5"/>
          </p:cNvCxnSpPr>
          <p:nvPr/>
        </p:nvCxnSpPr>
        <p:spPr>
          <a:xfrm rot="5400000">
            <a:off x="3575880" y="1860120"/>
            <a:ext cx="532440" cy="5041080"/>
          </a:xfrm>
          <a:prstGeom prst="bentConnector3">
            <a:avLst>
              <a:gd name="adj1" fmla="val 1575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9" idx="2"/>
            <a:endCxn id="306" idx="5"/>
          </p:cNvCxnSpPr>
          <p:nvPr/>
        </p:nvCxnSpPr>
        <p:spPr>
          <a:xfrm flipV="1" rot="16200000">
            <a:off x="3688920" y="1440720"/>
            <a:ext cx="306720" cy="5041080"/>
          </a:xfrm>
          <a:prstGeom prst="bentConnector3">
            <a:avLst>
              <a:gd name="adj1" fmla="val -746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5" idx="1"/>
            <a:endCxn id="313" idx="5"/>
          </p:cNvCxnSpPr>
          <p:nvPr/>
        </p:nvCxnSpPr>
        <p:spPr>
          <a:xfrm rot="10800000">
            <a:off x="3150360" y="20552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4" name=""/>
          <p:cNvSpPr/>
          <p:nvPr/>
        </p:nvSpPr>
        <p:spPr>
          <a:xfrm>
            <a:off x="304920" y="15238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81080" y="16002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"/>
          <p:cNvCxnSpPr>
            <a:stCxn id="313" idx="3"/>
            <a:endCxn id="314" idx="5"/>
          </p:cNvCxnSpPr>
          <p:nvPr/>
        </p:nvCxnSpPr>
        <p:spPr>
          <a:xfrm flipV="1" rot="16200000">
            <a:off x="1790280" y="16635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304920" y="24382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25146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17" idx="3"/>
            <a:endCxn id="316" idx="5"/>
          </p:cNvCxnSpPr>
          <p:nvPr/>
        </p:nvCxnSpPr>
        <p:spPr>
          <a:xfrm flipV="1" rot="16200000">
            <a:off x="1790280" y="25779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08" idx="1"/>
            <a:endCxn id="317" idx="5"/>
          </p:cNvCxnSpPr>
          <p:nvPr/>
        </p:nvCxnSpPr>
        <p:spPr>
          <a:xfrm rot="10800000">
            <a:off x="3150360" y="29696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09" idx="1"/>
            <a:endCxn id="308" idx="3"/>
          </p:cNvCxnSpPr>
          <p:nvPr/>
        </p:nvCxnSpPr>
        <p:spPr>
          <a:xfrm rot="10800000">
            <a:off x="4952160" y="3123360"/>
            <a:ext cx="8391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09" idx="1"/>
            <a:endCxn id="305" idx="3"/>
          </p:cNvCxnSpPr>
          <p:nvPr/>
        </p:nvCxnSpPr>
        <p:spPr>
          <a:xfrm rot="10800000">
            <a:off x="4952160" y="2208960"/>
            <a:ext cx="839160" cy="1677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696080" y="3352680"/>
            <a:ext cx="914400" cy="1067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GU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22" idx="1"/>
            <a:endCxn id="309" idx="3"/>
          </p:cNvCxnSpPr>
          <p:nvPr/>
        </p:nvCxnSpPr>
        <p:spPr>
          <a:xfrm flipH="1">
            <a:off x="6933960" y="3885840"/>
            <a:ext cx="76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24" name=""/>
          <p:cNvGrpSpPr/>
          <p:nvPr/>
        </p:nvGrpSpPr>
        <p:grpSpPr>
          <a:xfrm>
            <a:off x="533520" y="5240160"/>
            <a:ext cx="3044160" cy="246240"/>
            <a:chOff x="533520" y="5240160"/>
            <a:chExt cx="3044160" cy="246240"/>
          </a:xfrm>
        </p:grpSpPr>
        <p:sp>
          <p:nvSpPr>
            <p:cNvPr id="325" name=""/>
            <p:cNvSpPr/>
            <p:nvPr/>
          </p:nvSpPr>
          <p:spPr>
            <a:xfrm>
              <a:off x="533520" y="5289480"/>
              <a:ext cx="380880" cy="1494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53000" y="5240160"/>
              <a:ext cx="252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RML Nodes: Persistent, Undoable St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71680" y="5562720"/>
            <a:ext cx="3928320" cy="246240"/>
            <a:chOff x="571680" y="5562720"/>
            <a:chExt cx="3928320" cy="246240"/>
          </a:xfrm>
        </p:grpSpPr>
        <p:sp>
          <p:nvSpPr>
            <p:cNvPr id="328" name=""/>
            <p:cNvSpPr/>
            <p:nvPr/>
          </p:nvSpPr>
          <p:spPr>
            <a:xfrm>
              <a:off x="571680" y="5622840"/>
              <a:ext cx="304560" cy="122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68480" y="5562720"/>
              <a:ext cx="343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: Encapsulate VTK Pipelines, Observe MRML Nod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27120" y="5829480"/>
            <a:ext cx="5996520" cy="246240"/>
            <a:chOff x="627120" y="5829480"/>
            <a:chExt cx="5996520" cy="246240"/>
          </a:xfrm>
        </p:grpSpPr>
        <p:sp>
          <p:nvSpPr>
            <p:cNvPr id="331" name=""/>
            <p:cNvSpPr/>
            <p:nvPr/>
          </p:nvSpPr>
          <p:spPr>
            <a:xfrm>
              <a:off x="627120" y="5837400"/>
              <a:ext cx="195120" cy="2286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66320" y="5829480"/>
              <a:ext cx="555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UI: Manage Widgets and Rendering; Manipulated Nodes and Logic; Observe Nodes and Log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76320" y="1219320"/>
            <a:ext cx="1828800" cy="2057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1904760" y="1600200"/>
            <a:ext cx="32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410080" y="1523880"/>
            <a:ext cx="3025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ndow/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okup Table (Color No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arency Thresh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lice Managemen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19810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52280" y="33526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52280" y="4191120"/>
            <a:ext cx="1371600" cy="533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Composit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9880" y="28954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91320" y="365760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"/>
          <p:cNvCxnSpPr>
            <a:stCxn id="341" idx="2"/>
            <a:endCxn id="339" idx="5"/>
          </p:cNvCxnSpPr>
          <p:nvPr/>
        </p:nvCxnSpPr>
        <p:spPr>
          <a:xfrm rot="5400000">
            <a:off x="3575880" y="1860120"/>
            <a:ext cx="532440" cy="5041080"/>
          </a:xfrm>
          <a:prstGeom prst="bentConnector3">
            <a:avLst>
              <a:gd name="adj1" fmla="val 1575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41" idx="2"/>
            <a:endCxn id="338" idx="5"/>
          </p:cNvCxnSpPr>
          <p:nvPr/>
        </p:nvCxnSpPr>
        <p:spPr>
          <a:xfrm flipV="1" rot="16200000">
            <a:off x="3688920" y="1440720"/>
            <a:ext cx="306720" cy="5041080"/>
          </a:xfrm>
          <a:prstGeom prst="bentConnector3">
            <a:avLst>
              <a:gd name="adj1" fmla="val -746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37" idx="1"/>
            <a:endCxn id="345" idx="5"/>
          </p:cNvCxnSpPr>
          <p:nvPr/>
        </p:nvCxnSpPr>
        <p:spPr>
          <a:xfrm rot="10800000">
            <a:off x="3150360" y="20552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6" name=""/>
          <p:cNvSpPr/>
          <p:nvPr/>
        </p:nvSpPr>
        <p:spPr>
          <a:xfrm>
            <a:off x="304920" y="15238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81080" y="16002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"/>
          <p:cNvCxnSpPr>
            <a:stCxn id="345" idx="3"/>
            <a:endCxn id="346" idx="5"/>
          </p:cNvCxnSpPr>
          <p:nvPr/>
        </p:nvCxnSpPr>
        <p:spPr>
          <a:xfrm flipV="1" rot="16200000">
            <a:off x="1790280" y="16635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8" name=""/>
          <p:cNvSpPr/>
          <p:nvPr/>
        </p:nvSpPr>
        <p:spPr>
          <a:xfrm>
            <a:off x="304920" y="24382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5146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"/>
          <p:cNvCxnSpPr>
            <a:stCxn id="349" idx="3"/>
            <a:endCxn id="348" idx="5"/>
          </p:cNvCxnSpPr>
          <p:nvPr/>
        </p:nvCxnSpPr>
        <p:spPr>
          <a:xfrm flipV="1" rot="16200000">
            <a:off x="1790280" y="25779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0" idx="1"/>
            <a:endCxn id="349" idx="5"/>
          </p:cNvCxnSpPr>
          <p:nvPr/>
        </p:nvCxnSpPr>
        <p:spPr>
          <a:xfrm rot="10800000">
            <a:off x="3150360" y="29696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1" idx="1"/>
            <a:endCxn id="340" idx="3"/>
          </p:cNvCxnSpPr>
          <p:nvPr/>
        </p:nvCxnSpPr>
        <p:spPr>
          <a:xfrm rot="10800000">
            <a:off x="4952160" y="3123360"/>
            <a:ext cx="8391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41" idx="1"/>
            <a:endCxn id="337" idx="3"/>
          </p:cNvCxnSpPr>
          <p:nvPr/>
        </p:nvCxnSpPr>
        <p:spPr>
          <a:xfrm rot="10800000">
            <a:off x="4952160" y="2208960"/>
            <a:ext cx="839160" cy="1677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"/>
          <p:cNvSpPr/>
          <p:nvPr/>
        </p:nvSpPr>
        <p:spPr>
          <a:xfrm>
            <a:off x="7696080" y="3352680"/>
            <a:ext cx="914400" cy="1067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GU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"/>
          <p:cNvCxnSpPr>
            <a:stCxn id="354" idx="1"/>
            <a:endCxn id="341" idx="3"/>
          </p:cNvCxnSpPr>
          <p:nvPr/>
        </p:nvCxnSpPr>
        <p:spPr>
          <a:xfrm flipH="1">
            <a:off x="6933960" y="3885840"/>
            <a:ext cx="76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6" name=""/>
          <p:cNvGrpSpPr/>
          <p:nvPr/>
        </p:nvGrpSpPr>
        <p:grpSpPr>
          <a:xfrm>
            <a:off x="533520" y="5240160"/>
            <a:ext cx="3044160" cy="246240"/>
            <a:chOff x="533520" y="5240160"/>
            <a:chExt cx="3044160" cy="246240"/>
          </a:xfrm>
        </p:grpSpPr>
        <p:sp>
          <p:nvSpPr>
            <p:cNvPr id="357" name=""/>
            <p:cNvSpPr/>
            <p:nvPr/>
          </p:nvSpPr>
          <p:spPr>
            <a:xfrm>
              <a:off x="533520" y="5289480"/>
              <a:ext cx="380880" cy="1494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53000" y="5240160"/>
              <a:ext cx="252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RML Nodes: Persistent, Undoable St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71680" y="5562720"/>
            <a:ext cx="3928320" cy="246240"/>
            <a:chOff x="571680" y="5562720"/>
            <a:chExt cx="3928320" cy="246240"/>
          </a:xfrm>
        </p:grpSpPr>
        <p:sp>
          <p:nvSpPr>
            <p:cNvPr id="360" name=""/>
            <p:cNvSpPr/>
            <p:nvPr/>
          </p:nvSpPr>
          <p:spPr>
            <a:xfrm>
              <a:off x="571680" y="5622840"/>
              <a:ext cx="304560" cy="122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68480" y="5562720"/>
              <a:ext cx="343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: Encapsulate VTK Pipelines, Observe MRML Nod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627120" y="5829480"/>
            <a:ext cx="5996520" cy="246240"/>
            <a:chOff x="627120" y="5829480"/>
            <a:chExt cx="5996520" cy="246240"/>
          </a:xfrm>
        </p:grpSpPr>
        <p:sp>
          <p:nvSpPr>
            <p:cNvPr id="363" name=""/>
            <p:cNvSpPr/>
            <p:nvPr/>
          </p:nvSpPr>
          <p:spPr>
            <a:xfrm>
              <a:off x="627120" y="5837400"/>
              <a:ext cx="195120" cy="2286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66320" y="5829480"/>
              <a:ext cx="555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UI: Manage Widgets and Rendering; Manipulated Nodes and Logic; Observe Nodes and Log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0" y="3124080"/>
            <a:ext cx="182880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981080" y="1600200"/>
            <a:ext cx="320040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10080" y="1523880"/>
            <a:ext cx="302580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S Location of Slice (Origin and Orient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of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xel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lice Managemen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09880" y="19810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33526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4191120"/>
            <a:ext cx="1371600" cy="533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Composit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09880" y="28954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791320" y="365760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2"/>
            <a:endCxn id="371" idx="5"/>
          </p:cNvCxnSpPr>
          <p:nvPr/>
        </p:nvCxnSpPr>
        <p:spPr>
          <a:xfrm rot="5400000">
            <a:off x="3575880" y="1860120"/>
            <a:ext cx="532440" cy="5041080"/>
          </a:xfrm>
          <a:prstGeom prst="bentConnector3">
            <a:avLst>
              <a:gd name="adj1" fmla="val 1575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5" name=""/>
          <p:cNvCxnSpPr>
            <a:stCxn id="373" idx="2"/>
            <a:endCxn id="370" idx="5"/>
          </p:cNvCxnSpPr>
          <p:nvPr/>
        </p:nvCxnSpPr>
        <p:spPr>
          <a:xfrm flipV="1" rot="16200000">
            <a:off x="3688920" y="1440720"/>
            <a:ext cx="306720" cy="5041080"/>
          </a:xfrm>
          <a:prstGeom prst="bentConnector3">
            <a:avLst>
              <a:gd name="adj1" fmla="val -746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69" idx="1"/>
            <a:endCxn id="377" idx="5"/>
          </p:cNvCxnSpPr>
          <p:nvPr/>
        </p:nvCxnSpPr>
        <p:spPr>
          <a:xfrm rot="10800000">
            <a:off x="3150360" y="20552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304920" y="15238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81080" y="16002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"/>
          <p:cNvCxnSpPr>
            <a:stCxn id="377" idx="3"/>
            <a:endCxn id="378" idx="5"/>
          </p:cNvCxnSpPr>
          <p:nvPr/>
        </p:nvCxnSpPr>
        <p:spPr>
          <a:xfrm flipV="1" rot="16200000">
            <a:off x="1790280" y="16635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304920" y="24382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81080" y="25146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2" name=""/>
          <p:cNvCxnSpPr>
            <a:stCxn id="381" idx="3"/>
            <a:endCxn id="380" idx="5"/>
          </p:cNvCxnSpPr>
          <p:nvPr/>
        </p:nvCxnSpPr>
        <p:spPr>
          <a:xfrm flipV="1" rot="16200000">
            <a:off x="1790280" y="25779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72" idx="1"/>
            <a:endCxn id="381" idx="5"/>
          </p:cNvCxnSpPr>
          <p:nvPr/>
        </p:nvCxnSpPr>
        <p:spPr>
          <a:xfrm rot="10800000">
            <a:off x="3150360" y="29696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73" idx="1"/>
            <a:endCxn id="372" idx="3"/>
          </p:cNvCxnSpPr>
          <p:nvPr/>
        </p:nvCxnSpPr>
        <p:spPr>
          <a:xfrm rot="10800000">
            <a:off x="4952160" y="3123360"/>
            <a:ext cx="8391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73" idx="1"/>
            <a:endCxn id="369" idx="3"/>
          </p:cNvCxnSpPr>
          <p:nvPr/>
        </p:nvCxnSpPr>
        <p:spPr>
          <a:xfrm rot="10800000">
            <a:off x="4952160" y="2208960"/>
            <a:ext cx="839160" cy="1677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6" name=""/>
          <p:cNvSpPr/>
          <p:nvPr/>
        </p:nvSpPr>
        <p:spPr>
          <a:xfrm>
            <a:off x="7696080" y="3352680"/>
            <a:ext cx="914400" cy="1067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GU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"/>
          <p:cNvCxnSpPr>
            <a:stCxn id="386" idx="1"/>
            <a:endCxn id="373" idx="3"/>
          </p:cNvCxnSpPr>
          <p:nvPr/>
        </p:nvCxnSpPr>
        <p:spPr>
          <a:xfrm flipH="1">
            <a:off x="6933960" y="3885840"/>
            <a:ext cx="76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88" name=""/>
          <p:cNvGrpSpPr/>
          <p:nvPr/>
        </p:nvGrpSpPr>
        <p:grpSpPr>
          <a:xfrm>
            <a:off x="533520" y="5240160"/>
            <a:ext cx="3044160" cy="246240"/>
            <a:chOff x="533520" y="5240160"/>
            <a:chExt cx="3044160" cy="246240"/>
          </a:xfrm>
        </p:grpSpPr>
        <p:sp>
          <p:nvSpPr>
            <p:cNvPr id="389" name=""/>
            <p:cNvSpPr/>
            <p:nvPr/>
          </p:nvSpPr>
          <p:spPr>
            <a:xfrm>
              <a:off x="533520" y="5289480"/>
              <a:ext cx="380880" cy="1494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53000" y="5240160"/>
              <a:ext cx="252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RML Nodes: Persistent, Undoable St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71680" y="5562720"/>
            <a:ext cx="3928320" cy="246240"/>
            <a:chOff x="571680" y="5562720"/>
            <a:chExt cx="3928320" cy="246240"/>
          </a:xfrm>
        </p:grpSpPr>
        <p:sp>
          <p:nvSpPr>
            <p:cNvPr id="392" name=""/>
            <p:cNvSpPr/>
            <p:nvPr/>
          </p:nvSpPr>
          <p:spPr>
            <a:xfrm>
              <a:off x="571680" y="5622840"/>
              <a:ext cx="304560" cy="122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68480" y="5562720"/>
              <a:ext cx="343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: Encapsulate VTK Pipelines, Observe MRML Nod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27120" y="5829480"/>
            <a:ext cx="5996520" cy="246240"/>
            <a:chOff x="627120" y="5829480"/>
            <a:chExt cx="5996520" cy="246240"/>
          </a:xfrm>
        </p:grpSpPr>
        <p:sp>
          <p:nvSpPr>
            <p:cNvPr id="395" name=""/>
            <p:cNvSpPr/>
            <p:nvPr/>
          </p:nvSpPr>
          <p:spPr>
            <a:xfrm>
              <a:off x="627120" y="5837400"/>
              <a:ext cx="195120" cy="2286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66320" y="5829480"/>
              <a:ext cx="555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UI: Manage Widgets and Rendering; Manipulated Nodes and Logic; Observe Nodes and Log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0" y="3962520"/>
            <a:ext cx="1828800" cy="99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676520" y="1600200"/>
            <a:ext cx="3504960" cy="2438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10080" y="1523880"/>
            <a:ext cx="3025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IDs per 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acity of Over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12:18:40Z</dcterms:created>
  <dc:creator>Steve Pieper</dc:creator>
  <dc:description/>
  <dc:language>en-US</dc:language>
  <cp:lastModifiedBy> Steve Pieper</cp:lastModifiedBy>
  <dcterms:modified xsi:type="dcterms:W3CDTF">2007-01-09T16:54:08Z</dcterms:modified>
  <cp:revision>17</cp:revision>
  <dc:subject/>
  <dc:title>Slicer 3.0 Architecure</dc:title>
</cp:coreProperties>
</file>